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nsolas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143B-061A-44C9-BABD-CFB399513023}" type="slidenum">
              <a:rPr b="0" lang="th-T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ตัวยึดหมายเลขภาพนิ่ง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F89E-ACF7-4627-9BF5-AD730887AF3D}" type="slidenum">
              <a:rPr b="0" lang="th-TH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B45-5722-4A87-BEE2-8AFC510E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7B1-A2B6-46AB-B117-1E2C8D75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D34A-62E0-49FD-AD97-D872DC54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EDB-BE47-4CA4-A0C4-BCC52E12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437F-13C8-4A30-A5BA-DBBE7826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4521-8072-4420-B310-A6824DE6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407D-E2AA-458B-ADB3-9E271A13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71B3-85EB-4459-905E-5E8C39AC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23F0-805F-4DA6-8BAC-E7210CAF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18A3-DE8F-460C-9620-FF1820E1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E758-830E-4803-85AE-1DBC0A0C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25F-A7E3-400D-92FA-6612E6BA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EBB2-8796-4B19-8698-D97F6B4F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2EC3-BAAF-4787-89DA-D2FA75A7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0244-CC6F-4803-A13E-DC218EE4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7FDB-060F-41CF-8FE1-1CE95020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980B-52C3-4717-B3A1-C31B0F1D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DCDD-BB45-4E5C-B267-42241989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E11AE-C951-451A-AE2C-D0E5ED6B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1D5D-9A9E-4445-B3A7-828F1062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97D9-AB2D-4116-A0A6-8BA736CC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C6E58-14D6-451C-9D21-93B48BA7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844-4008-4B70-98C5-29E97CBB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5842-9E5D-4DD5-BF99-AD0BB0E6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01F8-14F1-41D2-B118-3C2B1130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2608-5A87-4C0E-B9F6-C9F31964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A14A-8712-4687-BC25-80B06FA4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2692-1684-4BDC-B2EC-0226CF93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F35D-816A-4825-A6CC-A065110A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FE7B-16E9-49C4-8ECE-6A7561B5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10860-396F-4151-8B63-F229368A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7234A-CAB8-4C17-9C85-4EE3088B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A8A0F-1453-48CF-8524-20AF6777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6CD-6916-4917-BB20-B4E3DB53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8331C-8D7A-4049-96F3-954662F4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C1C9-5B67-475A-AF74-8A0E33C9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9F299-4C0B-4318-8886-C9D63A39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2575-4FCF-4FDD-A799-2B9DC39B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5DE84-D1C2-4926-A7D0-ADDB4AC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3D0CB-BD38-4B78-A474-E434006E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2E01-2A22-4579-9EE2-DA68B408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B5F8D-4ABF-43C7-B554-FC38BAE4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E5863-F91C-4544-9482-265905F6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80B87-53E1-4C1F-A2CA-F3019DD9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5DB-CCCD-4A29-8C98-60225DB1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7CE2C-DE7C-4A11-9CD3-EE02CCE0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6A669-248A-4960-92E8-59EE4A4F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D7F36-3A51-415D-90E6-2A1DD505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D19C0-7FB2-48FC-9F46-A8102A89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926E4-C991-4307-B0A5-68B91478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34816-2529-4837-A524-714280E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D4D01-AF45-443A-BE29-7A0607C8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C38A7-F713-40FB-99B0-41808CA5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DFFA5-9B69-447F-B4DD-43E38EC8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ED4EF-14DB-4592-8F77-1EF8C8FC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DC2-CF00-4547-BD3D-1C01FE61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78BC7-FB8D-45ED-9C2F-C3B3B4CA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D136A-2119-4893-A5D6-6EC9EF5F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964BF-FB45-43DA-A5DA-81EDB73C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8840B-1B78-4AE0-A8AE-166D796C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112A8-565B-4EF3-A36E-E751AE0B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41493-D046-418E-B144-D12F0DFA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7D0AF-17D7-4871-AD73-597A24C4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31CA5-46F8-428F-9E4E-52A77BF4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849D3-138C-4316-892D-50FEA4A5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D1D3A-2AB5-4E2F-AB6A-7B2B3C97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FCA-813A-40B9-BC09-78AEB719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F10C4-2C5C-499A-BD83-B0404039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806C8-CF75-4E87-AEBE-EC3F0197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1C2B1-5B05-4258-84EE-E654F54E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80F-C1EE-4591-AC18-4619F472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D62-B9E9-4FB6-B721-D146004C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รูปแบบอิสระ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รูปแบบอิสระ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8C1E-09D7-4401-9BA3-487F49E92FD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รูปแบบอิสระ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รูปแบบอิสระ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C9A1-0665-456F-836C-DFB6192B1D3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รูปแบบอิสระ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รูปแบบอิสระ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2DD0-C6B1-4A0B-853C-8C806A4FCFB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EFCD-72CC-40EE-8710-BBAFEF2FD46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รูปแบบอิสระ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รูปแบบอิสระ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C3AD-60ED-4E8F-9992-58C263A32F28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938B-31F8-4384-9FA9-8EBB9A521CF4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14400" y="0"/>
            <a:ext cx="91728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th-TH" sz="88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หนังสืออ่านเพิ่มเติม</a:t>
            </a:r>
            <a:br>
              <a:rPr sz="8800"/>
            </a:br>
            <a:r>
              <a:rPr b="1" lang="th-TH" sz="88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ชุด ฉันคือใครในอาเซียน</a:t>
            </a:r>
            <a:br>
              <a:rPr sz="4300"/>
            </a:br>
            <a:r>
              <a:rPr b="1" lang="th-TH" sz="54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วัตกรรมการเตรียมความพร้อม</a:t>
            </a:r>
            <a:br>
              <a:rPr sz="5400"/>
            </a:br>
            <a:r>
              <a:rPr b="1" lang="th-TH" sz="54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สู่ประชาคมอาเซียนและทักษะในศตวรรษที่ </a:t>
            </a:r>
            <a:r>
              <a:rPr b="1" lang="th-TH" sz="5400" spc="-1" strike="noStrike">
                <a:solidFill>
                  <a:srgbClr val="ffff66"/>
                </a:solidFill>
                <a:latin typeface="PSL Passanun"/>
                <a:ea typeface="PSL Passanun"/>
              </a:rPr>
              <a:t>21</a:t>
            </a:r>
            <a:br>
              <a:rPr sz="4300"/>
            </a:br>
            <a:r>
              <a:rPr b="1" lang="th-TH" sz="5900" spc="-1" strike="noStrike">
                <a:solidFill>
                  <a:srgbClr val="ff0000"/>
                </a:solidFill>
                <a:latin typeface="PSL Passanun"/>
                <a:cs typeface="PSL Passanun"/>
              </a:rPr>
              <a:t>โรงเรียนบ้านลุมพุก </a:t>
            </a:r>
            <a:r>
              <a:rPr b="1" lang="th-TH" sz="5900" spc="-1" strike="noStrike">
                <a:solidFill>
                  <a:srgbClr val="ff0000"/>
                </a:solidFill>
                <a:latin typeface="PSL Passanun"/>
                <a:ea typeface="PSL Passanun"/>
              </a:rPr>
              <a:t>(</a:t>
            </a:r>
            <a:r>
              <a:rPr b="1" lang="th-TH" sz="5900" spc="-1" strike="noStrike">
                <a:solidFill>
                  <a:srgbClr val="ff0000"/>
                </a:solidFill>
                <a:latin typeface="PSL Passanun"/>
                <a:cs typeface="PSL Passanun"/>
              </a:rPr>
              <a:t>จันทรศึกษา</a:t>
            </a:r>
            <a:r>
              <a:rPr b="1" lang="th-TH" sz="5900" spc="-1" strike="noStrike">
                <a:solidFill>
                  <a:srgbClr val="ff0000"/>
                </a:solidFill>
                <a:latin typeface="PSL Passanun"/>
                <a:ea typeface="PSL Passanun"/>
              </a:rPr>
              <a:t>)</a:t>
            </a:r>
            <a:br>
              <a:rPr sz="6500"/>
            </a:br>
            <a:r>
              <a:rPr b="1" lang="th-TH" sz="44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สำนักงานเขตพื้นที่การศึกษาประถมศึกษาสุรินทร์ เขต </a:t>
            </a:r>
            <a:r>
              <a:rPr b="1" lang="th-TH" sz="4400" spc="-1" strike="noStrike">
                <a:solidFill>
                  <a:srgbClr val="ffff66"/>
                </a:solidFill>
                <a:latin typeface="PSL Passanun"/>
                <a:ea typeface="PSL Passanun"/>
              </a:rPr>
              <a:t>1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"/>
          <p:cNvSpPr/>
          <p:nvPr/>
        </p:nvSpPr>
        <p:spPr>
          <a:xfrm>
            <a:off x="0" y="39225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รูปภาพ 3" descr=""/>
          <p:cNvPicPr/>
          <p:nvPr/>
        </p:nvPicPr>
        <p:blipFill>
          <a:blip r:embed="rId1"/>
          <a:srcRect l="9918" t="18612" r="10892" b="7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3"/>
          <p:cNvSpPr/>
          <p:nvPr/>
        </p:nvSpPr>
        <p:spPr>
          <a:xfrm>
            <a:off x="0" y="39225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รูปภาพ 3" descr=""/>
          <p:cNvPicPr/>
          <p:nvPr/>
        </p:nvPicPr>
        <p:blipFill>
          <a:blip r:embed="rId1"/>
          <a:srcRect l="9818" t="18647" r="10944" b="71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12600" y="1752480"/>
            <a:ext cx="9169200" cy="46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1.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การเปิดตัวอย่างเป็นทางการของประชาคมอาเซียน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2552 </a:t>
            </a:r>
            <a:br>
              <a:rPr sz="4000"/>
            </a:b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2.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ต้องเตรียมความพร้อม ภายใน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2558</a:t>
            </a:r>
            <a:br>
              <a:rPr sz="4000"/>
            </a:b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-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เผยแพร่ความรู้</a:t>
            </a:r>
            <a:br>
              <a:rPr sz="4000"/>
            </a:b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-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พัฒนาศักยภาพของนักเรียน</a:t>
            </a:r>
            <a:br>
              <a:rPr sz="4000"/>
            </a:b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-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พัฒนามาตรฐานการศึกษา</a:t>
            </a:r>
            <a:br>
              <a:rPr sz="4000"/>
            </a:b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-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เปิดเสรีการศึกษาในอาเซียน</a:t>
            </a:r>
            <a:br>
              <a:rPr sz="4000"/>
            </a:b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-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พัฒนาเยาวชน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9" name="สี่เหลี่ยมผืนผ้า 2"/>
          <p:cNvSpPr/>
          <p:nvPr/>
        </p:nvSpPr>
        <p:spPr>
          <a:xfrm>
            <a:off x="380880" y="4572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ความเป็นมาของปัญห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สี่เหลี่ยมผืนผ้า 1"/>
          <p:cNvSpPr/>
          <p:nvPr/>
        </p:nvSpPr>
        <p:spPr>
          <a:xfrm>
            <a:off x="61920" y="457200"/>
            <a:ext cx="9082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เหลียวซ้าย แลขวา มองหน้า มองหลัง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โรงเรียนบ้านลุมพุก </a:t>
            </a:r>
            <a:r>
              <a:rPr b="1" lang="th-TH" sz="6000" spc="-1" strike="noStrike">
                <a:solidFill>
                  <a:srgbClr val="fa1c3c"/>
                </a:solidFill>
                <a:latin typeface="PSL Passanun"/>
                <a:ea typeface="PSL Passanun"/>
              </a:rPr>
              <a:t>(</a:t>
            </a: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จันทรศึกษา</a:t>
            </a:r>
            <a:r>
              <a:rPr b="1" lang="th-TH" sz="6000" spc="-1" strike="noStrike">
                <a:solidFill>
                  <a:srgbClr val="fa1c3c"/>
                </a:solidFill>
                <a:latin typeface="PSL Passanun"/>
                <a:ea typeface="PSL Passanun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สี่เหลี่ยมผืนผ้า 2"/>
          <p:cNvSpPr/>
          <p:nvPr/>
        </p:nvSpPr>
        <p:spPr>
          <a:xfrm>
            <a:off x="-14400" y="2641680"/>
            <a:ext cx="92487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1. 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ขาดสื่อการสอนที่เหมาะสม 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(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งบน้อย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2. 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ขาดบุคลากรที่เชี่ยวชาญเฉพาะด้าน 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(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ครูน้อย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3. 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สื่อที่ทันสมัยที่สุดคือ </a:t>
            </a:r>
            <a:r>
              <a:rPr b="1" lang="en-US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TABLE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4. 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หลักสูตรสถานศึกษายังไม่สอดคล้อ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5. 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ไม่มีแหล่งเรียนรู้ที่ทันสมั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12600" y="1600200"/>
            <a:ext cx="9169200" cy="46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ฝ่ายบริหาร</a:t>
            </a:r>
            <a:r>
              <a:rPr b="1" lang="th-TH" sz="6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ปรับปรุงหลักสูตร</a:t>
            </a:r>
            <a:br>
              <a:rPr sz="6000"/>
            </a:b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ครู</a:t>
            </a:r>
            <a:r>
              <a:rPr b="1" lang="th-TH" sz="6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6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6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ผลิตและพัฒนาสื่อการสอน</a:t>
            </a:r>
            <a:br>
              <a:rPr sz="6000"/>
            </a:br>
            <a:br>
              <a:rPr sz="4000"/>
            </a:br>
            <a:endParaRPr b="0" lang="en-US" sz="6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3" name="สี่เหลี่ยมผืนผ้า 2"/>
          <p:cNvSpPr/>
          <p:nvPr/>
        </p:nvSpPr>
        <p:spPr>
          <a:xfrm>
            <a:off x="-90360" y="457200"/>
            <a:ext cx="924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แนวทางแก้ปัญหา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12960" y="1600200"/>
            <a:ext cx="9994680" cy="46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เชิงคุณภาพ</a:t>
            </a:r>
            <a:br>
              <a:rPr sz="4000"/>
            </a:b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1.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ให้นักเรียนรู้ข้อมูลพื้นฐานประเทศสมาชิก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(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ส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4.2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ป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2/1)</a:t>
            </a:r>
            <a:br>
              <a:rPr sz="4000"/>
            </a:b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2.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ให้นักเรียนทราบตำแหน่งที่ตั้งประเทศสมาชิก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(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ส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4.2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ป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2/2)</a:t>
            </a:r>
            <a:br>
              <a:rPr sz="4000"/>
            </a:b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3.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พัฒนาและหาประสิทธิภาพหนังสืออ่านเพิ่มเติม</a:t>
            </a:r>
            <a:br>
              <a:rPr sz="4000"/>
            </a:b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4.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เปรียบเทียบผลสัมฤทธิ์ก่อนและหลังเรียน</a:t>
            </a:r>
            <a:br>
              <a:rPr sz="4000"/>
            </a:b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5.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หาค่าดัชนีประสิทธิผลของหนังสืออ่านเพิ่มเติม</a:t>
            </a:r>
            <a:br>
              <a:rPr sz="4000"/>
            </a:b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ea typeface="PSL Passanun"/>
              </a:rPr>
              <a:t>6. </a:t>
            </a:r>
            <a:r>
              <a:rPr b="1" lang="th-TH" sz="4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ประเมินความพึงพอใจของนักเรียน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5" name="สี่เหลี่ยมผืนผ้า 2"/>
          <p:cNvSpPr/>
          <p:nvPr/>
        </p:nvSpPr>
        <p:spPr>
          <a:xfrm>
            <a:off x="380880" y="4572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จุดประสงค์และเป้าหมา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12600" y="1600200"/>
            <a:ext cx="9169200" cy="46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เชิงปริมาณ</a:t>
            </a:r>
            <a:br>
              <a:rPr sz="4800"/>
            </a:b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1. 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ักเรียนได้รับการพัฒนา ร้อยละ 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100</a:t>
            </a:r>
            <a:br>
              <a:rPr sz="4800"/>
            </a:b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2. 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มีแหล่งเรียนรู้เกี่ยวกับประเทศสมาชิก </a:t>
            </a:r>
            <a:br>
              <a:rPr sz="4800"/>
            </a:b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	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   ครอบคลุมเนื้อหา ร้อยละ </a:t>
            </a:r>
            <a:r>
              <a:rPr b="1" lang="th-TH" sz="4800" spc="-1" strike="noStrike">
                <a:solidFill>
                  <a:srgbClr val="fa1c3c"/>
                </a:solidFill>
                <a:latin typeface="PSL Passanun"/>
                <a:ea typeface="PSL Passanun"/>
              </a:rPr>
              <a:t>100</a:t>
            </a:r>
            <a:endParaRPr b="0" lang="en-US" sz="48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7" name="สี่เหลี่ยมผืนผ้า 2"/>
          <p:cNvSpPr/>
          <p:nvPr/>
        </p:nvSpPr>
        <p:spPr>
          <a:xfrm>
            <a:off x="380880" y="4572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จุดประสงค์และเป้าหมาย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7080" y="1371600"/>
            <a:ext cx="9169200" cy="541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1.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ศึกษากรอบ หน่วยการเรียนรู้อาเซียนศึกษา </a:t>
            </a:r>
            <a:br>
              <a:rPr sz="4400"/>
            </a:b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   ตามหลักสูตรสถานศึกษา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(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ปรับปรุงครั้งที่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3) 2555</a:t>
            </a:r>
            <a:br>
              <a:rPr sz="4400"/>
            </a:b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2.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ศึกษามาตรฐานการเรียนรู้ ตัวชี้วัด จุดประสงค์ </a:t>
            </a:r>
            <a:br>
              <a:rPr sz="4400"/>
            </a:b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    สาระการเรียนรู้ ตามหลักสูตรสถานศึกษา</a:t>
            </a:r>
            <a:br>
              <a:rPr sz="4400"/>
            </a:b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3.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ศึกษาแนวคิด ทฤษฎีการสร้างหนังสืออ่านเพิ่มเติม </a:t>
            </a:r>
            <a:br>
              <a:rPr sz="4400"/>
            </a:b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    และงานวิจัยที่เกี่ยวข้อง</a:t>
            </a:r>
            <a:br>
              <a:rPr sz="4400"/>
            </a:b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4.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แบ่งเนื้อหาออกเป็น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10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เรื่อง</a:t>
            </a:r>
            <a:br>
              <a:rPr sz="4400"/>
            </a:b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5.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จัดพิมพ์รูปเล่มฉบับร่าง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89" name="สี่เหลี่ยมผืนผ้า 2"/>
          <p:cNvSpPr/>
          <p:nvPr/>
        </p:nvSpPr>
        <p:spPr>
          <a:xfrm>
            <a:off x="380880" y="2286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กระบวนการผลิต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7080" y="1371600"/>
            <a:ext cx="9169200" cy="541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6.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ำเสนอผู้เชี่ยวชาญ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5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ท่าน เพื่อประเมินความเหมาะสม</a:t>
            </a:r>
            <a:br>
              <a:rPr sz="4400"/>
            </a:b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7.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ำมาปรับปรุงแก้ไขตามข้อเสนอแนะของผู้เชี่ยวชาญ</a:t>
            </a:r>
            <a:br>
              <a:rPr sz="4400"/>
            </a:b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8.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ทดลองกลุ่มย่อย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(3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คน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)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กับนักเรียนโรงเรียนบ้านตำปูง </a:t>
            </a:r>
            <a:br>
              <a:rPr sz="4400"/>
            </a:b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9.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ทดลอง</a:t>
            </a:r>
            <a:br>
              <a:rPr sz="4400"/>
            </a:b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10.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ทดลองภาคสนามกับนักเรียนโรงเรียนบ้านเพี้ยราม</a:t>
            </a:r>
            <a:br>
              <a:rPr sz="4400"/>
            </a:b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  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(30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คน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)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91" name="สี่เหลี่ยมผืนผ้า 2"/>
          <p:cNvSpPr/>
          <p:nvPr/>
        </p:nvSpPr>
        <p:spPr>
          <a:xfrm>
            <a:off x="380880" y="22860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กระบวนการผลิต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169560" cy="109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การดำเนินกิจกรรมการเรียนรู้</a:t>
            </a:r>
            <a:endParaRPr b="0" lang="en-US" sz="6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-6480" y="1295280"/>
            <a:ext cx="9169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ำไปจัดกิจกรรมการเรียนการสอ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1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สอบก่อนเรียน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20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คะแน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2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ดำเนินการสอนในชั่วโมงเรียนปกต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   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10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มกราคม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2555-14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มีนาคม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255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3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สอบหลังเรีย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4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ประเมินความพึงพอใ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670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ข้อมูลพื้นฐาน</a:t>
            </a:r>
            <a:br>
              <a:rPr sz="7200"/>
            </a:br>
            <a:r>
              <a:rPr b="1" lang="th-TH" sz="7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โรงเรียนบ้านลุมพุก </a:t>
            </a:r>
            <a:r>
              <a:rPr b="1" lang="th-TH" sz="7200" spc="-1" strike="noStrike">
                <a:solidFill>
                  <a:srgbClr val="ffff66"/>
                </a:solidFill>
                <a:latin typeface="PSL Passanun"/>
                <a:ea typeface="PSL Passanun"/>
              </a:rPr>
              <a:t>(</a:t>
            </a:r>
            <a:r>
              <a:rPr b="1" lang="th-TH" sz="7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จันทรศึกษา</a:t>
            </a:r>
            <a:r>
              <a:rPr b="1" lang="th-TH" sz="7200" spc="-1" strike="noStrike">
                <a:solidFill>
                  <a:srgbClr val="ffff66"/>
                </a:solidFill>
                <a:latin typeface="PSL Passanun"/>
                <a:ea typeface="PSL Passanun"/>
              </a:rPr>
              <a:t>)</a:t>
            </a:r>
            <a:br>
              <a:rPr sz="7200"/>
            </a:br>
            <a:r>
              <a:rPr b="1" lang="th-TH" sz="54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ต</a:t>
            </a:r>
            <a:r>
              <a:rPr b="1" lang="th-TH" sz="54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54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ดี อ</a:t>
            </a:r>
            <a:r>
              <a:rPr b="1" lang="th-TH" sz="54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5400" spc="-1" strike="noStrike">
                <a:solidFill>
                  <a:srgbClr val="ffff66"/>
                </a:solidFill>
                <a:latin typeface="PSL Passanun"/>
                <a:cs typeface="PSL Passanun"/>
              </a:rPr>
              <a:t>เมืองสุรินทร์ จ</a:t>
            </a:r>
            <a:r>
              <a:rPr b="1" lang="th-TH" sz="54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54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สุรินทร์ </a:t>
            </a:r>
            <a:r>
              <a:rPr b="1" lang="th-TH" sz="5400" spc="-1" strike="noStrike">
                <a:solidFill>
                  <a:srgbClr val="ffff66"/>
                </a:solidFill>
                <a:latin typeface="PSL Passanun"/>
                <a:ea typeface="PSL Passanun"/>
              </a:rPr>
              <a:t>32000</a:t>
            </a:r>
            <a:br>
              <a:rPr sz="3200"/>
            </a:br>
            <a:r>
              <a:rPr b="1" lang="th-TH" sz="4800" spc="-1" strike="noStrike">
                <a:solidFill>
                  <a:srgbClr val="ffff66"/>
                </a:solidFill>
                <a:latin typeface="PSL Passanun"/>
                <a:cs typeface="PSL Passanun"/>
              </a:rPr>
              <a:t>เขตพื้นที่บริการ หมู่ </a:t>
            </a:r>
            <a:r>
              <a:rPr b="1" lang="th-TH" sz="4800" spc="-1" strike="noStrike">
                <a:solidFill>
                  <a:srgbClr val="ffff66"/>
                </a:solidFill>
                <a:latin typeface="PSL Passanun"/>
                <a:ea typeface="PSL Passanun"/>
              </a:rPr>
              <a:t>8 </a:t>
            </a:r>
            <a:r>
              <a:rPr b="1" lang="th-TH" sz="48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ต</a:t>
            </a:r>
            <a:r>
              <a:rPr b="1" lang="th-TH" sz="48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48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ดี อ</a:t>
            </a:r>
            <a:r>
              <a:rPr b="1" lang="th-TH" sz="48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4800" spc="-1" strike="noStrike">
                <a:solidFill>
                  <a:srgbClr val="ffff66"/>
                </a:solidFill>
                <a:latin typeface="PSL Passanun"/>
                <a:cs typeface="PSL Passanun"/>
              </a:rPr>
              <a:t>เมือง จ</a:t>
            </a:r>
            <a:r>
              <a:rPr b="1" lang="th-TH" sz="48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48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สุรินทร์</a:t>
            </a:r>
            <a:br>
              <a:rPr sz="5400"/>
            </a:br>
            <a:r>
              <a:rPr b="1" lang="th-TH" sz="5400" spc="-1" strike="noStrike">
                <a:solidFill>
                  <a:srgbClr val="ffff66"/>
                </a:solidFill>
                <a:latin typeface="PSL Passanun"/>
                <a:cs typeface="PSL Passanun"/>
              </a:rPr>
              <a:t>เปิดสอนตั้งแต่ระดับชั้นอนุบาล </a:t>
            </a:r>
            <a:r>
              <a:rPr b="1" lang="th-TH" sz="5400" spc="-1" strike="noStrike">
                <a:solidFill>
                  <a:srgbClr val="ffff66"/>
                </a:solidFill>
                <a:latin typeface="PSL Passanun"/>
                <a:ea typeface="PSL Passanun"/>
              </a:rPr>
              <a:t>1 </a:t>
            </a:r>
            <a:br>
              <a:rPr sz="5400"/>
            </a:br>
            <a:r>
              <a:rPr b="1" lang="th-TH" sz="54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ถึงชั้นประถมศึกษาปีที่ </a:t>
            </a:r>
            <a:r>
              <a:rPr b="1" lang="th-TH" sz="5400" spc="-1" strike="noStrike">
                <a:solidFill>
                  <a:srgbClr val="ffff66"/>
                </a:solidFill>
                <a:latin typeface="PSL Passanun"/>
                <a:ea typeface="PSL Passanun"/>
              </a:rPr>
              <a:t>6</a:t>
            </a:r>
            <a:endParaRPr b="0" lang="en-US" sz="54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169560" cy="109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ประสิทธิภาพของการดำเนินงาน</a:t>
            </a:r>
            <a:endParaRPr b="0" lang="en-US" sz="6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-6480" y="1295280"/>
            <a:ext cx="9169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1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ักเรียนสามารถเรียนรู้ได้ในเวลาอันสั้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2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ักเรียนเข้าใจเนื้อหาง่าย เพราะเป็นกลอ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3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ักเรียนที่มีปัญหาการอ่าน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/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เขียนก็เรียนรู้ได้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4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ใช้ต้นทุนการผลิตต่ำ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5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ำไปศึกษาได้ทุกเวลา ทุกสถานที่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169560" cy="109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ผลที่เกิดตามจุดประสงค์</a:t>
            </a:r>
            <a:endParaRPr b="0" lang="en-US" sz="6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-6480" y="1295280"/>
            <a:ext cx="9169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1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ักเรียนรู้ข้อมูลพื้นฐานเกี่ยวกับประเท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  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สมาชิกประชาคมอาเซีย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2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ักเรียนทราบตำแหน่งที่ตั้งทางภูมิศาสตร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  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ของประเทศสมาชิกประชาคมอาเซีย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3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หนังสืออ่านเพิ่มเติมมีประสิทธิภาพ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87.40/87.0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169560" cy="109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ผลที่เกิดตามจุดประสงค์</a:t>
            </a:r>
            <a:endParaRPr b="0" lang="en-US" sz="6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-6480" y="1295280"/>
            <a:ext cx="9169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4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ักเรียนมีคะแนนผลสัมฤทธิ์ทางการเรียนหลังเรียนสูงกว่าก่อนเรีย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5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ดัชนีประสิทธิผลหนังสืออ่านเพิ่มเติม เท่ากับ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0.7910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แสดงว่านักเรียนมีความรู้เพิ่มขึ้น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0.7910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หรือ ร้อยละ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79.1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6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ักเรียนพึงพอใจในระดับมากที่สุด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169560" cy="109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ผลสัมฤทธิ์ของงาน</a:t>
            </a:r>
            <a:endParaRPr b="0" lang="en-US" sz="6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-6480" y="1295280"/>
            <a:ext cx="9169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buClr>
                <a:srgbClr val="fa1c3c"/>
              </a:buClr>
              <a:buFont typeface="PSL Passanu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สามารถพัฒนานักเรียนให้มีความรู้ตามเนื้อหาที่กำหนดไว้ในหลักสูตรสถานศึกษ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2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ในภาคผนวกมีเนื้อหาเพิ่มเติม เพื่อให้นักเรียนใช้ขยายความรู้เพิ่มเติ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3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ักเรียนได้เรียนรู้อย่างมีความสุ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4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ฝึกทักษะการอ่าน เสริมนิสัยรักการอ่า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169560" cy="109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ประโยชน์ที่ได้รับ</a:t>
            </a:r>
            <a:endParaRPr b="0" lang="en-US" sz="6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-6480" y="1295280"/>
            <a:ext cx="9169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buClr>
                <a:srgbClr val="fa1c3c"/>
              </a:buClr>
              <a:buFont typeface="PSL Passanu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ได้นวัตกรรมเกี่ยวกับอาเซียน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a1c3c"/>
              </a:buClr>
              <a:buFont typeface="PSL Passanu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ักเรียนเห็นความสำคัญของการเรียนรู้ภาษาต่างประเท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a1c3c"/>
              </a:buClr>
              <a:buFont typeface="PSL Passanu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ักเรียนใช้เวลาว่างให้เป็นประโยชน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a1c3c"/>
              </a:buClr>
              <a:buFont typeface="PSL Passanu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กลุ่มเครือข่ายเมืองสุรินทร์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3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กำหนดให้นำหนังสืออ่านเพิ่มเติมชุดนี้ ไปใช้สอนในทุกโรงเรีย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169560" cy="109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บทเรียนที่ได้รับ</a:t>
            </a:r>
            <a:endParaRPr b="0" lang="en-US" sz="6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-6480" y="1295280"/>
            <a:ext cx="9169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buClr>
                <a:srgbClr val="fa1c3c"/>
              </a:buClr>
              <a:buFont typeface="PSL Passanu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ักเรียนทุกคนมีคุณค่า พัฒนาได้ หากมีรูปแบบการสอนที่กระตุ้นให้นักเรียนอยากรู้อยากเห็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fa1c3c"/>
              </a:buClr>
              <a:buFont typeface="PSL Passanu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สื่อการสอนที่มีคุณภาพไม่ต้องมีราคาแพง แต่ต้องทำให้ท้าทาย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a1c3c"/>
                </a:solidFill>
                <a:latin typeface="PSL Passanun"/>
                <a:ea typeface="PSL Passanun"/>
              </a:rPr>
              <a:t>3. </a:t>
            </a:r>
            <a:r>
              <a:rPr b="1" lang="th-TH" sz="5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การเรียนรู้ครูและนักเรียนสามารถเรียนรู้ไปได้พร้อมกัน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9169560" cy="1093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การเผยแพร่</a:t>
            </a:r>
            <a:endParaRPr b="0" lang="en-US" sz="66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-6480" y="1295280"/>
            <a:ext cx="91695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1.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จัดพิมพ์แจกจ่ายโรงเรียนในเครือข่ายเมืองสุรินทร์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2.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เผยแพร่ในเว็ปไซด์ ครูบ้านนอกดอทคอ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    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(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สามารถติดต่อรับไฟล์หนังสือโดยตรงได้ที่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      </a:t>
            </a:r>
            <a:r>
              <a:rPr b="1" lang="en-US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supraneeboon@gmail.com</a:t>
            </a:r>
            <a:r>
              <a:rPr b="1" lang="th-TH" sz="4400" spc="-1" strike="noStrike">
                <a:solidFill>
                  <a:srgbClr val="fa1c3c"/>
                </a:solidFill>
                <a:latin typeface="PSL Passanun"/>
                <a:ea typeface="PSL Passanun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8160" y="76320"/>
            <a:ext cx="9220320" cy="167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1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ข้อมูลบุคลากรโรงเรียนบ้านลุมพุก </a:t>
            </a:r>
            <a:r>
              <a:rPr b="1" lang="th-TH" sz="4100" spc="-1" strike="noStrike">
                <a:solidFill>
                  <a:srgbClr val="ffff66"/>
                </a:solidFill>
                <a:latin typeface="PSL Passanun"/>
                <a:ea typeface="PSL Passanun"/>
              </a:rPr>
              <a:t>(</a:t>
            </a:r>
            <a:r>
              <a:rPr b="1" lang="th-TH" sz="41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จันทรศึกษา</a:t>
            </a:r>
            <a:r>
              <a:rPr b="1" lang="th-TH" sz="4100" spc="-1" strike="noStrike">
                <a:solidFill>
                  <a:srgbClr val="ffff66"/>
                </a:solidFill>
                <a:latin typeface="PSL Passanun"/>
                <a:ea typeface="PSL Passanun"/>
              </a:rPr>
              <a:t>)</a:t>
            </a:r>
            <a:br>
              <a:rPr sz="4100"/>
            </a:br>
            <a:r>
              <a:rPr b="1" lang="th-TH" sz="41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ต</a:t>
            </a:r>
            <a:r>
              <a:rPr b="1" lang="th-TH" sz="41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41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ดี อ</a:t>
            </a:r>
            <a:r>
              <a:rPr b="1" lang="th-TH" sz="41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4100" spc="-1" strike="noStrike">
                <a:solidFill>
                  <a:srgbClr val="ffff66"/>
                </a:solidFill>
                <a:latin typeface="PSL Passanun"/>
                <a:cs typeface="PSL Passanun"/>
              </a:rPr>
              <a:t>เมืองสุรินทร์ จ</a:t>
            </a:r>
            <a:r>
              <a:rPr b="1" lang="th-TH" sz="41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41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สุรินทร์ </a:t>
            </a:r>
            <a:r>
              <a:rPr b="1" lang="th-TH" sz="4100" spc="-1" strike="noStrike">
                <a:solidFill>
                  <a:srgbClr val="ffff66"/>
                </a:solidFill>
                <a:latin typeface="PSL Passanun"/>
                <a:ea typeface="PSL Passanun"/>
              </a:rPr>
              <a:t>32000</a:t>
            </a: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64" name="สี่เหลี่ยมผืนผ้า 2"/>
          <p:cNvSpPr/>
          <p:nvPr/>
        </p:nvSpPr>
        <p:spPr>
          <a:xfrm>
            <a:off x="457200" y="1447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ผู้บริหาร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ยสันติศักดิ์  สุขสนิท</a:t>
            </a:r>
            <a:br>
              <a:rPr sz="3600"/>
            </a:b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รูประจำการ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1.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ยศักดิ์สิทธิ์ ชุมพลรักษ์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(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ศ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.3)</a:t>
            </a:r>
            <a:br>
              <a:rPr sz="3600"/>
            </a:b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2.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งสุปรานีย์  บุญศิริ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(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ศ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.3)</a:t>
            </a:r>
            <a:br>
              <a:rPr sz="3600"/>
            </a:b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3.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ยประถม  ดาทอง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(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ศ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.2)</a:t>
            </a:r>
            <a:br>
              <a:rPr sz="3600"/>
            </a:b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พนักงานราชการ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งศิริกุล  นามศิร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ลูกจ้างชั่วคราว 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งสาวฐิติมา  สุขประเสริฐ</a:t>
            </a:r>
            <a:br>
              <a:rPr sz="3600"/>
            </a:b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พี่เลี้ยงเด็กพิการ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งอุษารัตน์  พิศโสระ</a:t>
            </a:r>
            <a:br>
              <a:rPr sz="3600"/>
            </a:b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ลูกจ้างประจำ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ยวินัย  พุ่มพา</a:t>
            </a:r>
            <a:br>
              <a:rPr sz="3600"/>
            </a:b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เจ้าหน้าที่ธุรการ 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งสาวสุภาพ  พูนสกุ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670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ข้อมูลนักเรียนโรงเรียนบ้านลุมพุก </a:t>
            </a:r>
            <a:r>
              <a:rPr b="1" lang="th-TH" sz="4600" spc="-1" strike="noStrike">
                <a:solidFill>
                  <a:srgbClr val="ffff66"/>
                </a:solidFill>
                <a:latin typeface="PSL Passanun"/>
                <a:ea typeface="PSL Passanun"/>
              </a:rPr>
              <a:t>(</a:t>
            </a:r>
            <a:r>
              <a:rPr b="1" lang="th-TH" sz="46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จันทรศึกษา</a:t>
            </a:r>
            <a:r>
              <a:rPr b="1" lang="th-TH" sz="4600" spc="-1" strike="noStrike">
                <a:solidFill>
                  <a:srgbClr val="ffff66"/>
                </a:solidFill>
                <a:latin typeface="PSL Passanun"/>
                <a:ea typeface="PSL Passanun"/>
              </a:rPr>
              <a:t>)</a:t>
            </a:r>
            <a:br>
              <a:rPr sz="4600"/>
            </a:b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ต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นาดี อ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เมืองสุรินทร์ จ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สุรินทร์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32000</a:t>
            </a:r>
            <a:br>
              <a:rPr sz="3200"/>
            </a:b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ปีการศึกษา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2556</a:t>
            </a:r>
            <a:br>
              <a:rPr sz="3200"/>
            </a:b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อ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1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ช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1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ญ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4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รวม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5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br>
              <a:rPr sz="3200"/>
            </a:b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อ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2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ช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6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ญ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1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รวม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7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br>
              <a:rPr sz="3200"/>
            </a:b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ป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1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ช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4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ญ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1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รวม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5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br>
              <a:rPr sz="3200"/>
            </a:b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ป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2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ช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1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ญ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2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รวม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3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br>
              <a:rPr sz="3200"/>
            </a:b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ป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3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ช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2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ญ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3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รวม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5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br>
              <a:rPr sz="3200"/>
            </a:b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ป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4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ช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2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ญ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2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รวม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4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br>
              <a:rPr sz="3200"/>
            </a:b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ป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5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ช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1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ญ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2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รวม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3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br>
              <a:rPr sz="3200"/>
            </a:b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  ป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6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ช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7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 ญ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. 3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น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	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 รวม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ea typeface="PSL Passanun"/>
              </a:rPr>
              <a:t>10 </a:t>
            </a:r>
            <a:r>
              <a:rPr b="1" lang="th-TH" sz="32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ค</a:t>
            </a:r>
            <a:br>
              <a:rPr sz="3200"/>
            </a:br>
            <a:r>
              <a:rPr b="1" lang="th-TH" sz="3200" spc="-1" strike="noStrike">
                <a:solidFill>
                  <a:srgbClr val="ff0000"/>
                </a:solidFill>
                <a:latin typeface="PSL Passanun"/>
                <a:ea typeface="PSL Passanun"/>
              </a:rPr>
              <a:t>    รวม      ช </a:t>
            </a:r>
            <a:r>
              <a:rPr b="1" lang="th-TH" sz="3200" spc="-1" strike="noStrike">
                <a:solidFill>
                  <a:srgbClr val="ff0000"/>
                </a:solidFill>
                <a:latin typeface="PSL Passanun"/>
                <a:ea typeface="PSL Passanun"/>
              </a:rPr>
              <a:t>24 </a:t>
            </a:r>
            <a:r>
              <a:rPr b="1" lang="th-TH" sz="3200" spc="-1" strike="noStrike">
                <a:solidFill>
                  <a:srgbClr val="ff0000"/>
                </a:solidFill>
                <a:latin typeface="PSL Passanun"/>
                <a:cs typeface="PSL Passanun"/>
              </a:rPr>
              <a:t>คน     ญ </a:t>
            </a:r>
            <a:r>
              <a:rPr b="1" lang="th-TH" sz="3200" spc="-1" strike="noStrike">
                <a:solidFill>
                  <a:srgbClr val="ff0000"/>
                </a:solidFill>
                <a:latin typeface="PSL Passanun"/>
                <a:ea typeface="PSL Passanun"/>
              </a:rPr>
              <a:t>18 </a:t>
            </a:r>
            <a:r>
              <a:rPr b="1" lang="th-TH" sz="3200" spc="-1" strike="noStrike">
                <a:solidFill>
                  <a:srgbClr val="ff0000"/>
                </a:solidFill>
                <a:latin typeface="PSL Passanun"/>
                <a:cs typeface="PSL Passanun"/>
              </a:rPr>
              <a:t>คน     รวมทั้งสิ้น </a:t>
            </a:r>
            <a:r>
              <a:rPr b="1" lang="th-TH" sz="3200" spc="-1" strike="noStrike">
                <a:solidFill>
                  <a:srgbClr val="ff0000"/>
                </a:solidFill>
                <a:latin typeface="PSL Passanun"/>
                <a:ea typeface="PSL Passanun"/>
              </a:rPr>
              <a:t>42 </a:t>
            </a:r>
            <a:r>
              <a:rPr b="1" lang="th-TH" sz="3200" spc="-1" strike="noStrike">
                <a:solidFill>
                  <a:srgbClr val="ff0000"/>
                </a:solidFill>
                <a:latin typeface="PSL Passanun"/>
                <a:cs typeface="PSL Passanun"/>
              </a:rPr>
              <a:t>คน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25560" y="0"/>
            <a:ext cx="919512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66"/>
                </a:solidFill>
                <a:latin typeface="PSL Passanun"/>
                <a:cs typeface="PSL Passanun"/>
              </a:rPr>
              <a:t>ผู้เสนอผลงาน</a:t>
            </a:r>
            <a:br>
              <a:rPr sz="4800"/>
            </a:br>
            <a:r>
              <a:rPr b="1" lang="th-TH" sz="60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นางสุปรานีย์ บุญศิริ</a:t>
            </a:r>
            <a:br>
              <a:rPr sz="6000"/>
            </a:br>
            <a:r>
              <a:rPr b="1" lang="th-TH" sz="4600" spc="-1" strike="noStrike">
                <a:solidFill>
                  <a:srgbClr val="ffffff"/>
                </a:solidFill>
                <a:latin typeface="PSL Passanun"/>
                <a:cs typeface="PSL Passanun"/>
              </a:rPr>
              <a:t>คบ</a:t>
            </a:r>
            <a:r>
              <a:rPr b="1" lang="th-TH" sz="4600" spc="-1" strike="noStrike">
                <a:solidFill>
                  <a:srgbClr val="ffffff"/>
                </a:solidFill>
                <a:latin typeface="PSL Passanun"/>
                <a:ea typeface="PSL Passanun"/>
              </a:rPr>
              <a:t>. (</a:t>
            </a:r>
            <a:r>
              <a:rPr b="1" lang="th-TH" sz="4600" spc="-1" strike="noStrike">
                <a:solidFill>
                  <a:srgbClr val="ffffff"/>
                </a:solidFill>
                <a:latin typeface="PSL Passanun"/>
                <a:cs typeface="PSL Passanun"/>
              </a:rPr>
              <a:t>เกษตรศาสตร์</a:t>
            </a:r>
            <a:r>
              <a:rPr b="1" lang="th-TH" sz="4600" spc="-1" strike="noStrike">
                <a:solidFill>
                  <a:srgbClr val="ffffff"/>
                </a:solidFill>
                <a:latin typeface="PSL Passanun"/>
                <a:ea typeface="PSL Passanun"/>
              </a:rPr>
              <a:t>)</a:t>
            </a:r>
            <a:br>
              <a:rPr sz="4600"/>
            </a:br>
            <a:r>
              <a:rPr b="1" lang="th-TH" sz="4000" spc="-1" strike="noStrike">
                <a:solidFill>
                  <a:srgbClr val="ffffff"/>
                </a:solidFill>
                <a:latin typeface="PSL Passanun"/>
                <a:cs typeface="PSL Passanun"/>
              </a:rPr>
              <a:t>ครูชำนาญการพิเศษ สาระสังคมศึกษา ศาสนาและวัฒนธรรม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1219320"/>
            <a:ext cx="9172440" cy="3657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ความสำคัญของนวัตกรรม</a:t>
            </a:r>
            <a:br>
              <a:rPr sz="6600"/>
            </a:br>
            <a:r>
              <a:rPr b="1" lang="th-TH" sz="4800" spc="-1" strike="noStrike">
                <a:solidFill>
                  <a:srgbClr val="fa1c3c"/>
                </a:solidFill>
                <a:latin typeface="PSL Passanun"/>
                <a:cs typeface="PSL Passanun"/>
              </a:rPr>
              <a:t>หนังสืออ่านเพิ่มเติม ชุด ฉันคือใครในอาเซียน</a:t>
            </a:r>
            <a:endParaRPr b="0" lang="en-US" sz="48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3"/>
          <p:cNvSpPr/>
          <p:nvPr/>
        </p:nvSpPr>
        <p:spPr>
          <a:xfrm>
            <a:off x="0" y="39225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รูปภาพ 4" descr=""/>
          <p:cNvPicPr/>
          <p:nvPr/>
        </p:nvPicPr>
        <p:blipFill>
          <a:blip r:embed="rId1"/>
          <a:srcRect l="9641" t="18583" r="10593" b="70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3"/>
          <p:cNvSpPr/>
          <p:nvPr/>
        </p:nvSpPr>
        <p:spPr>
          <a:xfrm>
            <a:off x="0" y="39225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รูปภาพ 5" descr=""/>
          <p:cNvPicPr/>
          <p:nvPr/>
        </p:nvPicPr>
        <p:blipFill>
          <a:blip r:embed="rId1"/>
          <a:srcRect l="9641" t="18622" r="10925" b="708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0" y="39225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รูปภาพ 3" descr=""/>
          <p:cNvPicPr/>
          <p:nvPr/>
        </p:nvPicPr>
        <p:blipFill>
          <a:blip r:embed="rId1"/>
          <a:srcRect l="9637" t="18612" r="10940" b="69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09:03:16Z</dcterms:created>
  <dc:creator>User</dc:creator>
  <dc:description/>
  <dc:language>en-US</dc:language>
  <cp:lastModifiedBy>Min</cp:lastModifiedBy>
  <dcterms:modified xsi:type="dcterms:W3CDTF">2013-08-25T18:26:20Z</dcterms:modified>
  <cp:revision>169</cp:revision>
  <dc:subject/>
  <dc:title>20คำถามเกี่ยวกับปรัชญาของเศรษฐกิจพอเพียง</dc:title>
</cp:coreProperties>
</file>